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LASER.WAV" ContentType="audio/x-wav"/>
  <Override PartName="/ppt/media/image13.wmf" ContentType="image/x-wmf"/>
  <Override PartName="/ppt/media/EXPLODE.WAV" ContentType="audio/x-wav"/>
  <Override PartName="/ppt/media/image12.wmf" ContentType="image/x-wmf"/>
  <Override PartName="/ppt/media/image30.wmf" ContentType="image/x-wmf"/>
  <Override PartName="/ppt/media/image29.wmf" ContentType="image/x-wmf"/>
  <Override PartName="/ppt/media/CAMERA.WAV" ContentType="audio/x-wav"/>
  <Override PartName="/ppt/media/image24.wmf" ContentType="image/x-wmf"/>
  <Override PartName="/ppt/media/CASHREG.WAV" ContentType="audio/x-wav"/>
  <Override PartName="/ppt/media/image31.wmf" ContentType="image/x-wmf"/>
  <Override PartName="/ppt/media/image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26.wmf" ContentType="image/x-wmf"/>
  <Override PartName="/ppt/media/image33.wmf" ContentType="image/x-wmf"/>
  <Override PartName="/ppt/media/image3.wmf" ContentType="image/x-wmf"/>
  <Override PartName="/ppt/media/image27.wmf" ContentType="image/x-wmf"/>
  <Override PartName="/ppt/media/image34.wmf" ContentType="image/x-wmf"/>
  <Override PartName="/ppt/media/image4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C6C-CBA7-4C36-A3C2-24F4B8F1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BD8-FCAF-4C46-866B-61FC1DD8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D35-C4E6-4879-9F1A-CB642CB3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13C-3B67-4A05-9FA4-13CA10D8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80F-2974-4C6B-9AB3-DE086C61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E56-4E2E-41F2-BEE4-3777985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568-F84F-44B8-BD2E-B03CFFC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C60-BBA2-4AE4-8FF5-29FF7CAB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10E-F9FF-4598-9A1E-01948362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253-1D82-438E-BAB5-FF84122B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825-B5FC-4A34-AE4E-3B6EDA0C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A5E-75DF-4F5F-9275-C37B43D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CDCC-AF35-42E7-B1AC-D3A3BE61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audio" Target="../media/CHIMES.WAV"/><Relationship Id="rId18" Type="http://schemas.openxmlformats.org/officeDocument/2006/relationships/audio" Target="../media/CASHREG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audio" Target="../media/CAMERA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EXPLODE.WAV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audio" Target="../media/CASHREG.WAV"/><Relationship Id="rId26" Type="http://schemas.openxmlformats.org/officeDocument/2006/relationships/audio" Target="../media/CAMERA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CAMERA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audio" Target="../media/CASHREG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EXPLODE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audio" Target="../media/CASHREG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EXPLODE.WAV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s for Dividing Negative Numbers. 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as Multiplyin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there is an even number of negative numbers,                       then the answer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52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f there is an odd number of negative numbers,                      then the answer is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0" y="2819520"/>
                <a:ext cx="2819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8" name=""/>
          <p:cNvGraphicFramePr/>
          <p:nvPr/>
        </p:nvGraphicFramePr>
        <p:xfrm>
          <a:off x="2743200" y="2819520"/>
          <a:ext cx="16416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1641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60920" y="2779560"/>
                <a:ext cx="3505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1" name=""/>
          <p:cNvGraphicFramePr/>
          <p:nvPr/>
        </p:nvGraphicFramePr>
        <p:xfrm>
          <a:off x="8172360" y="2819520"/>
          <a:ext cx="9716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72360" y="2819520"/>
                    <a:ext cx="971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4267080"/>
          <a:ext cx="2984400" cy="56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67080"/>
                    <a:ext cx="298440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971800" y="3733920"/>
          <a:ext cx="1569960" cy="16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3733920"/>
                    <a:ext cx="15699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768920" y="3668760"/>
                <a:ext cx="28494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7162920" y="5105520"/>
          <a:ext cx="134604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5105520"/>
                    <a:ext cx="13460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5321160"/>
                <a:ext cx="300204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3173400" y="5307120"/>
          <a:ext cx="1346040" cy="15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3400" y="5307120"/>
                    <a:ext cx="13460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00600" y="5867280"/>
          <a:ext cx="2695680" cy="56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5867280"/>
                    <a:ext cx="26956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43800" y="5867280"/>
          <a:ext cx="133812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5867280"/>
                    <a:ext cx="1338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376960" y="5176800"/>
                <a:ext cx="18446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3120" y="5388120"/>
                <a:ext cx="25876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7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ify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3" name=""/>
          <p:cNvGraphicFramePr/>
          <p:nvPr/>
        </p:nvGraphicFramePr>
        <p:xfrm>
          <a:off x="0" y="1066680"/>
          <a:ext cx="3363840" cy="14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33638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76720" y="990720"/>
          <a:ext cx="334008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990720"/>
                    <a:ext cx="33400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0" y="3048120"/>
          <a:ext cx="2747880" cy="14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48120"/>
                    <a:ext cx="274788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90920" y="2971800"/>
          <a:ext cx="3441600" cy="16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2971800"/>
                    <a:ext cx="3441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5029200"/>
          <a:ext cx="2984400" cy="14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029200"/>
                    <a:ext cx="29844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819520" y="4952880"/>
          <a:ext cx="2984400" cy="15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952880"/>
                    <a:ext cx="29844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477120" y="1447920"/>
          <a:ext cx="1336680" cy="61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1447920"/>
                    <a:ext cx="133668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620120" y="1447920"/>
          <a:ext cx="1233360" cy="763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1447920"/>
                    <a:ext cx="12333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019920" y="3429000"/>
          <a:ext cx="1334880" cy="619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19920" y="3429000"/>
                    <a:ext cx="13348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238880" y="2971800"/>
          <a:ext cx="1438560" cy="159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2971800"/>
                    <a:ext cx="14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40560" y="5442120"/>
          <a:ext cx="1645920" cy="618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40560" y="5442120"/>
                    <a:ext cx="16459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315200" y="5410080"/>
          <a:ext cx="1131840" cy="619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15200" y="5410080"/>
                    <a:ext cx="11318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9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0" y="990720"/>
          <a:ext cx="5826240" cy="14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58262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228680" y="2475000"/>
                <a:ext cx="203688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4" name=""/>
          <p:cNvGraphicFramePr/>
          <p:nvPr/>
        </p:nvGraphicFramePr>
        <p:xfrm>
          <a:off x="6629400" y="2895480"/>
          <a:ext cx="10396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895480"/>
                    <a:ext cx="10396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0" y="3886200"/>
          <a:ext cx="781524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781524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39760" y="5356080"/>
                <a:ext cx="226080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6934320" y="5791320"/>
          <a:ext cx="9651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791320"/>
                    <a:ext cx="965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657600" y="5275440"/>
          <a:ext cx="1886040" cy="158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5275440"/>
                    <a:ext cx="18860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715000" y="5275440"/>
          <a:ext cx="1074600" cy="15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5275440"/>
                    <a:ext cx="10746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29000" y="2438280"/>
          <a:ext cx="2212920" cy="160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438280"/>
                    <a:ext cx="2212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562720" y="2438280"/>
          <a:ext cx="1081080" cy="160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438280"/>
                    <a:ext cx="1081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2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3" name=""/>
          <p:cNvGraphicFramePr/>
          <p:nvPr/>
        </p:nvGraphicFramePr>
        <p:xfrm>
          <a:off x="-25560" y="990720"/>
          <a:ext cx="5875560" cy="14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990720"/>
                    <a:ext cx="58755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70000" y="2422440"/>
                <a:ext cx="24098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5000760" y="2895480"/>
          <a:ext cx="109692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760" y="2895480"/>
                    <a:ext cx="1096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0" y="3886200"/>
          <a:ext cx="871524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871524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30200" y="5226120"/>
                <a:ext cx="326232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7772400" y="5486400"/>
          <a:ext cx="9651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5486400"/>
                    <a:ext cx="965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35440" y="5122800"/>
          <a:ext cx="2498760" cy="17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5440" y="5122800"/>
                    <a:ext cx="249876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248520" y="5029200"/>
          <a:ext cx="1433520" cy="15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5029200"/>
                    <a:ext cx="143352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52480" y="2514600"/>
          <a:ext cx="623880" cy="62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52480" y="2514600"/>
                    <a:ext cx="6238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656160" y="2438280"/>
          <a:ext cx="1388880" cy="160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6160" y="2438280"/>
                    <a:ext cx="13888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38280" y="2514600"/>
          <a:ext cx="623880" cy="627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38280" y="2514600"/>
                    <a:ext cx="6238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207040" y="5181480"/>
          <a:ext cx="86688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07040" y="5181480"/>
                    <a:ext cx="86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800600" y="6019920"/>
          <a:ext cx="76500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00600" y="6019920"/>
                    <a:ext cx="765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2T18:17:52Z</dcterms:modified>
  <cp:revision>100</cp:revision>
  <dc:subject/>
  <dc:title>No Slide Title</dc:title>
</cp:coreProperties>
</file>